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7083-3F95-4652-94C2-068C4BE1A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8320-C2BE-402F-A390-4C7B1A4C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730D-FC97-4C41-851A-CAC1405B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9842-D295-426C-B0B9-69181A34B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669F-610A-4A76-A0AE-72B4B38A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B224-77C1-40DD-B12F-876869D0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F815-4DB4-4317-AD05-41FC825D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47DA-6611-40B0-BEED-FBB90558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2445-1749-43CF-B960-03DED310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AC34-8377-4551-85C3-D251E16A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F2C0-2393-471F-B59E-8B4EE2AF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5D73-F5F9-45B9-93B8-4B206DEA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e2fba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6D26-69CD-4856-8231-1D4CEB67F9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Тренажёр</a:t>
            </a:r>
            <a:br>
              <a:rPr sz="4400"/>
            </a:b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Таблица умн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bestgif"/>
          <p:cNvPicPr/>
          <p:nvPr/>
        </p:nvPicPr>
        <p:blipFill>
          <a:blip r:embed="rId1"/>
          <a:stretch/>
        </p:blipFill>
        <p:spPr>
          <a:xfrm>
            <a:off x="-228600" y="0"/>
            <a:ext cx="2719440" cy="3581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7 Х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5 Х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9 Х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6"/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3 Х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3"/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6"/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7"/>
          <p:cNvGrpSpPr/>
          <p:nvPr/>
        </p:nvGrpSpPr>
        <p:grpSpPr>
          <a:xfrm>
            <a:off x="1295280" y="228600"/>
            <a:ext cx="7391160" cy="6095880"/>
            <a:chOff x="1295280" y="228600"/>
            <a:chExt cx="7391160" cy="6095880"/>
          </a:xfrm>
        </p:grpSpPr>
        <p:pic>
          <p:nvPicPr>
            <p:cNvPr id="117" name="Picture 4" descr="mult-pict"/>
            <p:cNvPicPr/>
            <p:nvPr/>
          </p:nvPicPr>
          <p:blipFill>
            <a:blip r:embed="rId1"/>
            <a:stretch/>
          </p:blipFill>
          <p:spPr>
            <a:xfrm>
              <a:off x="1295280" y="228600"/>
              <a:ext cx="640080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Rectangle 5"/>
            <p:cNvSpPr/>
            <p:nvPr/>
          </p:nvSpPr>
          <p:spPr>
            <a:xfrm>
              <a:off x="1523880" y="5410080"/>
              <a:ext cx="5867280" cy="9144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ff00"/>
                  </a:solidFill>
                  <a:latin typeface="Arial"/>
                </a:rPr>
                <a:t>Ты молодец!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6">
              <a:hlinkClick r:id="" action="ppaction://hlinkshowjump?jump=previousslide"/>
            </p:cNvPr>
            <p:cNvSpPr/>
            <p:nvPr/>
          </p:nvSpPr>
          <p:spPr>
            <a:xfrm>
              <a:off x="7848360" y="5790960"/>
              <a:ext cx="838080" cy="533520"/>
            </a:xfrm>
            <a:custGeom>
              <a:avLst/>
              <a:gdLst>
                <a:gd name="textAreaLeft" fmla="*/ 34560 w 838080"/>
                <a:gd name="textAreaRight" fmla="*/ 803520 w 838080"/>
                <a:gd name="textAreaTop" fmla="*/ 34560 h 533520"/>
                <a:gd name="textAreaBottom" fmla="*/ 498960 h 533520"/>
              </a:gdLst>
              <a:ahLst/>
              <a:rect l="textAreaLeft" t="textAreaTop" r="textAreaRight" b="textAreaBottom"/>
              <a:pathLst>
                <a:path w="33922" h="21600">
                  <a:moveTo>
                    <a:pt x="0" y="0"/>
                  </a:moveTo>
                  <a:lnTo>
                    <a:pt x="33922" y="0"/>
                  </a:lnTo>
                  <a:lnTo>
                    <a:pt x="33922" y="21600"/>
                  </a:lnTo>
                  <a:lnTo>
                    <a:pt x="0" y="21600"/>
                  </a:lnTo>
                  <a:close/>
                </a:path>
                <a:path fill="lightenLess" w="33922" h="21600">
                  <a:moveTo>
                    <a:pt x="0" y="0"/>
                  </a:moveTo>
                  <a:lnTo>
                    <a:pt x="33922" y="0"/>
                  </a:lnTo>
                  <a:lnTo>
                    <a:pt x="32522" y="1400"/>
                  </a:lnTo>
                  <a:lnTo>
                    <a:pt x="1400" y="1400"/>
                  </a:lnTo>
                  <a:close/>
                </a:path>
                <a:path fill="darken" w="33922" h="21600">
                  <a:moveTo>
                    <a:pt x="33922" y="0"/>
                  </a:moveTo>
                  <a:lnTo>
                    <a:pt x="33922" y="21600"/>
                  </a:lnTo>
                  <a:lnTo>
                    <a:pt x="32522" y="20200"/>
                  </a:lnTo>
                  <a:lnTo>
                    <a:pt x="32522" y="1400"/>
                  </a:lnTo>
                  <a:close/>
                </a:path>
                <a:path fill="darkenLess" w="33922" h="21600">
                  <a:moveTo>
                    <a:pt x="3392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522" y="20200"/>
                  </a:lnTo>
                  <a:close/>
                </a:path>
                <a:path fill="lighten" w="3392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3922" h="21600">
                  <a:moveTo>
                    <a:pt x="9955" y="10800"/>
                  </a:moveTo>
                  <a:lnTo>
                    <a:pt x="23968" y="3794"/>
                  </a:lnTo>
                  <a:lnTo>
                    <a:pt x="23968" y="178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mult-pict"/>
          <p:cNvPicPr/>
          <p:nvPr/>
        </p:nvPicPr>
        <p:blipFill>
          <a:blip r:embed="rId1"/>
          <a:stretch/>
        </p:blipFill>
        <p:spPr>
          <a:xfrm>
            <a:off x="533520" y="304920"/>
            <a:ext cx="5029200" cy="3771720"/>
          </a:xfrm>
          <a:prstGeom prst="rect">
            <a:avLst/>
          </a:prstGeom>
          <a:ln w="0">
            <a:noFill/>
          </a:ln>
        </p:spPr>
      </p:pic>
      <p:sp>
        <p:nvSpPr>
          <p:cNvPr id="123" name="Oval 5"/>
          <p:cNvSpPr/>
          <p:nvPr/>
        </p:nvSpPr>
        <p:spPr>
          <a:xfrm>
            <a:off x="3352680" y="4495680"/>
            <a:ext cx="5486400" cy="1905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Подумай ещё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>
            <a:hlinkClick r:id="" action="ppaction://hlinkshowjump?jump=previousslide"/>
          </p:cNvPr>
          <p:cNvSpPr/>
          <p:nvPr/>
        </p:nvSpPr>
        <p:spPr>
          <a:xfrm>
            <a:off x="830592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Благодарю за работу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bestgif"/>
          <p:cNvPicPr/>
          <p:nvPr/>
        </p:nvPicPr>
        <p:blipFill>
          <a:blip r:embed="rId1"/>
          <a:stretch/>
        </p:blipFill>
        <p:spPr>
          <a:xfrm>
            <a:off x="1981080" y="1981080"/>
            <a:ext cx="4105440" cy="39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Использованные Интернет ресур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bestgif.narod.ru/- 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ани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6 Х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4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6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7">
            <a:hlinkClick r:id="rId3" action="ppaction://hlinksldjump"/>
          </p:cNvPr>
          <p:cNvSpPr/>
          <p:nvPr/>
        </p:nvSpPr>
        <p:spPr>
          <a:xfrm>
            <a:off x="4876920" y="266688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8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8 Х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3 Х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1 Х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5 Х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9 Х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5 Х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4 Х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1-01T06:22:3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